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1ED0-F50E-46BF-9AE6-529CFF3B0C90}"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BEA0-BC49-460B-B1B0-04DB5BB79F27}"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9627-383F-4837-8427-E8D5924E3D88}"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8730-ED74-4583-A2CD-43B5CCA6B870}"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29CEF-7834-432B-8BDF-4AFE9A06164C}" type="slidenum">
              <a:rPr b="0" lang="es-CO"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BA0AB-9C8A-4828-ABD4-1681AADAB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58650-77A8-4777-AEB3-54ED0150C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F95EC-3BF8-40DE-B536-65D62FF1B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6B6D6-27C4-4C2A-8FC0-02C559246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C911A-4246-454C-A725-3D2F46BE3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14159-1E8D-4C2A-A987-1476E32A6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80F3E-7584-48B8-91D2-A4EC08293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7ED5E-2967-48CC-9CE4-63C28A69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6521F-CF8D-46EA-8B7C-16BF287C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9122B-15CB-47B0-AF6D-9F0831F5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C8B1-E197-49E2-8E07-C937223CE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C1348-2A2B-4D7E-A977-AAA7F358E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F459-DB79-4D3D-AA66-B078291DFCA9}" type="slidenum">
              <a:rPr b="0" lang="es-C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co/imgres?imgurl=http://www.uhu.es/62024/enlaces/NTAEcazasEM0809/almacen%2520caza/ok.jpg&amp;imgrefurl=http://www.uhu.es/62024/enlaces/NTAEcazasEM0809/almacen%2520caza/aprendemos_los_instrumentos2.htm&amp;usg=__30a8HNiUxhB-puOlOGbDc5vNxSs=&amp;h=320&amp;w=320&amp;sz=9&amp;hl=es&amp;start=2&amp;um=1&amp;itbs=1&amp;tbnid=XSeeolvpNRyscM:&amp;tbnh=118&amp;tbnw=118&amp;prev=/images%3Fq%3Dok%26um%3D1%26hl%3Des%26tbs%3Disch: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s.wikipedia.org/wiki/Archivo:Uml_diagram-es.sv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3 Rectángulo" descr=""/>
          <p:cNvPicPr/>
          <p:nvPr/>
        </p:nvPicPr>
        <p:blipFill>
          <a:blip r:embed="rId1"/>
          <a:stretch/>
        </p:blipFill>
        <p:spPr>
          <a:xfrm>
            <a:off x="365040" y="1407960"/>
            <a:ext cx="8607600" cy="315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http://www1.ceit.es/asignaturas/InteInfo/Recursos/umldist-covers1.gif"/>
          <p:cNvPicPr/>
          <p:nvPr/>
        </p:nvPicPr>
        <p:blipFill>
          <a:blip r:embed="rId1"/>
          <a:srcRect l="0" t="4003" r="0" b="6001"/>
          <a:stretch/>
        </p:blipFill>
        <p:spPr>
          <a:xfrm>
            <a:off x="2214720" y="285840"/>
            <a:ext cx="5143320" cy="642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www1.ceit.es/asignaturas/InteInfo/Recursos/umldist-covers2.gif"/>
          <p:cNvPicPr/>
          <p:nvPr/>
        </p:nvPicPr>
        <p:blipFill>
          <a:blip r:embed="rId1"/>
          <a:srcRect l="0" t="5902" r="0" b="5574"/>
          <a:stretch/>
        </p:blipFill>
        <p:spPr>
          <a:xfrm>
            <a:off x="1643040" y="428760"/>
            <a:ext cx="5229360" cy="642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www1.ceit.es/asignaturas/InteInfo/Recursos/umldist-covers3.gif"/>
          <p:cNvPicPr/>
          <p:nvPr/>
        </p:nvPicPr>
        <p:blipFill>
          <a:blip r:embed="rId1"/>
          <a:srcRect l="0" t="5219" r="0" b="6086"/>
          <a:stretch/>
        </p:blipFill>
        <p:spPr>
          <a:xfrm>
            <a:off x="1785960" y="0"/>
            <a:ext cx="5392800" cy="664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www1.ceit.es/asignaturas/InteInfo/Recursos/umldist-covers4.gif"/>
          <p:cNvPicPr/>
          <p:nvPr/>
        </p:nvPicPr>
        <p:blipFill>
          <a:blip r:embed="rId1"/>
          <a:srcRect l="0" t="4397" r="0" b="4397"/>
          <a:stretch/>
        </p:blipFill>
        <p:spPr>
          <a:xfrm>
            <a:off x="1857240" y="214200"/>
            <a:ext cx="5072040" cy="642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CuadroTexto"/>
          <p:cNvSpPr/>
          <p:nvPr/>
        </p:nvSpPr>
        <p:spPr>
          <a:xfrm>
            <a:off x="714240" y="571680"/>
            <a:ext cx="7715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VENTAJ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Se desarrolla un único modelo al que acceden directamente las aplicacione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0" lang="es-CO" sz="1800" spc="-1" strike="noStrike">
                <a:solidFill>
                  <a:srgbClr val="000000"/>
                </a:solidFill>
                <a:latin typeface="Calibri"/>
              </a:rPr>
              <a:t>Simplifica la conceptualización La utilización de objetos permite representar de una forma más natural los datos que se necesitan guardar.</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0" lang="es-CO" sz="1800" spc="-1" strike="noStrike">
                <a:solidFill>
                  <a:srgbClr val="000000"/>
                </a:solidFill>
                <a:latin typeface="Calibri"/>
              </a:rPr>
              <a:t>Mejora la comunicación entre los usuarios, los diseñadores y los analist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Extensibilidad: Los SGBDOO permiten construir nuevos tipos de datos a partir de tipos existente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Existe una única interfaz entre el LMD y el lenguaje de programación lo que elimina lo que elimina el problema de tener incrustar un lenguaje declarativo como SQL en un lenguaje imperativo como 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Lenguaje de consultas más expresivo : El acceso navegacional es más adecuado para manipular despliegue de partes, consultas recursiva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Soporte a esquema evolutivo : el estrecho acoplamiento entre datos y  aplicaciones en un SGBDOO hace más abordable el esquema evolutivo</a:t>
            </a:r>
            <a:endParaRPr b="0" lang="en-US" sz="1800" spc="-1" strike="noStrike">
              <a:solidFill>
                <a:srgbClr val="000000"/>
              </a:solidFill>
              <a:latin typeface="Arial"/>
            </a:endParaRPr>
          </a:p>
        </p:txBody>
      </p:sp>
      <p:pic>
        <p:nvPicPr>
          <p:cNvPr id="64" name="Picture 2" descr="http://t2.gstatic.com/images?q=tbn:XSeeolvpNRyscM:http://www.uhu.es/62024/enlaces/NTAEcazasEM0809/almacen%2520caza/ok.jpg">
            <a:hlinkClick r:id="rId1"/>
          </p:cNvPr>
          <p:cNvPicPr/>
          <p:nvPr/>
        </p:nvPicPr>
        <p:blipFill>
          <a:blip r:embed="rId2"/>
          <a:stretch/>
        </p:blipFill>
        <p:spPr>
          <a:xfrm>
            <a:off x="3143160" y="214200"/>
            <a:ext cx="838440" cy="8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3 CuadroTexto"/>
          <p:cNvSpPr/>
          <p:nvPr/>
        </p:nvSpPr>
        <p:spPr>
          <a:xfrm>
            <a:off x="714240" y="642960"/>
            <a:ext cx="7715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ESVENTAJ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  </a:t>
            </a:r>
            <a:r>
              <a:rPr b="0" lang="es-CO" sz="1800" spc="-1" strike="noStrike">
                <a:solidFill>
                  <a:srgbClr val="000000"/>
                </a:solidFill>
                <a:latin typeface="Calibri"/>
              </a:rPr>
              <a:t>La optimización de consultas compromete la encapsulación: optimizar consultas requiere conocer la implementación para acceder a la BD eficientement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Los bloqueos a nivel de objeto, utilizados en protocolos de control de concurrencia pueden afectar al rendimiento.</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Complejidad: el incremento de funcionalidad provisto por un SGBDOO, como un único nivel de modelo de almacenamiento o soporte a transacciones largas. La complejidad con lleva productos más caros y difíciles de usar.</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Falta de soporte a las vistas: la mayoría de SGBDOO n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roveen mecanismos de vist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Falta de soporte a la seguridad: Actualmente los SGBDOO no proveen un mecanismo adecuado de seguridad. La mayoría de mecanismos están basados en un nivel de granularidad alto y los usuarios no pueden conceder derechos de acceso a objetos o clases individuales.</a:t>
            </a:r>
            <a:endParaRPr b="0" lang="en-US" sz="1800" spc="-1" strike="noStrike">
              <a:solidFill>
                <a:srgbClr val="000000"/>
              </a:solidFill>
              <a:latin typeface="Arial"/>
            </a:endParaRPr>
          </a:p>
        </p:txBody>
      </p:sp>
      <p:pic>
        <p:nvPicPr>
          <p:cNvPr id="66" name="Picture 2" descr="http://t2.gstatic.com/images?q=tbn:XSeeolvpNRyscM:http://www.uhu.es/62024/enlaces/NTAEcazasEM0809/almacen%2520caza/ok.jpg"/>
          <p:cNvPicPr/>
          <p:nvPr/>
        </p:nvPicPr>
        <p:blipFill>
          <a:blip r:embed="rId1"/>
          <a:stretch/>
        </p:blipFill>
        <p:spPr>
          <a:xfrm>
            <a:off x="2887560" y="173160"/>
            <a:ext cx="83844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3 CuadroTexto"/>
          <p:cNvSpPr/>
          <p:nvPr/>
        </p:nvSpPr>
        <p:spPr>
          <a:xfrm>
            <a:off x="428760" y="428760"/>
            <a:ext cx="82152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CONCLUSIO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n Conclusión sabemos que las BDOO representan el siguiente paso en la evolución de las bases de datos, para soportar el Análisis, Diseño y Programación OO. Las BDOO permiten el desarrollo y mantenimiento de aplicaciones complejas con un costo Significativamente meno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ermiten que el mismo modelo conceptual se aplique al Análisis, diseño, programación, definición y acceso a la base de datos. Esto reduce el problema del operador de traducción entre los diferentes modelos a través de todo el ciclo de vida. El modelo conceptual debe ser la base de las herramientas CASE OO totalmente integradas, las cuales ayudan a generar la estructura de datos y los métod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as BDOO ofrecen un mucho mejor rendimiento de la máquina que las bases de datos por relación, para aplicaciones o clases con estructuras complejas de datos. Sin embargo, Las BDOO coexistirán con las bases de datos por relación durante los próximos años, puesto que a menudo se utilizará un modelo por relación como una forma de estructura de datos dentro de una BD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CuadroTexto"/>
          <p:cNvSpPr/>
          <p:nvPr/>
        </p:nvSpPr>
        <p:spPr>
          <a:xfrm>
            <a:off x="785880" y="1071720"/>
            <a:ext cx="757224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REFERENCI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a:t>
            </a:r>
            <a:r>
              <a:rPr b="0" lang="es-CO" sz="1800" spc="-1" strike="noStrike">
                <a:solidFill>
                  <a:srgbClr val="000000"/>
                </a:solidFill>
                <a:latin typeface="Calibri"/>
              </a:rPr>
              <a:t>Database Systems.Thomas Connolly, Carolyn Begg. Addison Wes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Fundamentos de Bases de datos.Abraham Silberschatz, Henry F.Korth, S.Sudarshan. Mc Graw Hi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http://basesdatos.uc3m.es/fileadmin/Docencia/BDAII/BBDDobjetos30.p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http://www.scribd.com/doc/490192/Diseno-Orientado-a-Objetos-con-UML-by-Raul-Alarc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CuadroTexto"/>
          <p:cNvSpPr/>
          <p:nvPr/>
        </p:nvSpPr>
        <p:spPr>
          <a:xfrm>
            <a:off x="714240" y="785880"/>
            <a:ext cx="75726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ASES DE DATOS ORIENTADA A OBJETOS (BD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 una base de datos inteligente. Soporta el paradigma orientado a objetos almacenando datos y métodos, y no sólo datos. Está diseñada para ser eficaz, desde el punto de vista físico, para almacenar objetos complejos. Evita el acceso a los datos; esto es mediante los métodos almacenados en ella. Es más segura ya que no permite tener acceso a los datos (objetos); esto debido a que para poder entrar se tiene que hacer por los métodos que haya utilizado el programad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Un SGBDOO es un SGBD que almacena objetos y por tan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osee todas las ventajas de la orientación a obje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as bases de datos orientadas a objetos se diseñan para trabajar bien en conjunción con lenguajes de programación orientados a objetos como Java, C#, Visual Basic.NET y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3 CuadroTexto"/>
          <p:cNvSpPr/>
          <p:nvPr/>
        </p:nvSpPr>
        <p:spPr>
          <a:xfrm>
            <a:off x="714240" y="285840"/>
            <a:ext cx="7715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ARACTERI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fig6"/>
          <p:cNvPicPr/>
          <p:nvPr/>
        </p:nvPicPr>
        <p:blipFill>
          <a:blip r:embed="rId1"/>
          <a:stretch/>
        </p:blipFill>
        <p:spPr>
          <a:xfrm>
            <a:off x="1461960" y="1000080"/>
            <a:ext cx="6034320" cy="521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CuadroTexto"/>
          <p:cNvSpPr/>
          <p:nvPr/>
        </p:nvSpPr>
        <p:spPr>
          <a:xfrm>
            <a:off x="714240" y="285840"/>
            <a:ext cx="771552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ARACTERI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propone 13 características obligatorias para los SGBDOO, basado en dos criterios: debe ser un sistema orientado a objetos y debe ser un SGB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tkinson et al., 1989). Característic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 Debe soportar objetos complejos: </a:t>
            </a:r>
            <a:r>
              <a:rPr b="0" lang="es-CO" sz="1800" spc="-1" strike="noStrike">
                <a:solidFill>
                  <a:srgbClr val="000000"/>
                </a:solidFill>
                <a:latin typeface="Calibri"/>
              </a:rPr>
              <a:t>Debe ser posible construir objetos complejos aplicando constructores a objetos básicos.</a:t>
            </a:r>
            <a:endParaRPr b="0" lang="en-US" sz="1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2. Identidad del objeto: </a:t>
            </a:r>
            <a:r>
              <a:rPr b="0" lang="es-CO" sz="1800" spc="-1" strike="noStrike">
                <a:solidFill>
                  <a:srgbClr val="000000"/>
                </a:solidFill>
                <a:latin typeface="Calibri"/>
              </a:rPr>
              <a:t>Todos los objetos deben tener un identificador que es    independiente de los valores de sus atribu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3. Encapsulamiento: </a:t>
            </a:r>
            <a:r>
              <a:rPr b="0" lang="es-CO" sz="1800" spc="-1" strike="noStrike">
                <a:solidFill>
                  <a:srgbClr val="000000"/>
                </a:solidFill>
                <a:latin typeface="Calibri"/>
              </a:rPr>
              <a:t>Los programadores solo tienen acceso a la especificación de interfaz de los métodos, y los datos e implementación de estos métodos están ocultos en los objet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4. Tipos o clases : </a:t>
            </a:r>
            <a:r>
              <a:rPr b="0" lang="es-CO" sz="1800" spc="-1" strike="noStrike">
                <a:solidFill>
                  <a:srgbClr val="000000"/>
                </a:solidFill>
                <a:latin typeface="Calibri"/>
              </a:rPr>
              <a:t>El esquema de una BBOO contiene un conjunto de clases o tip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5. Tipos o clases deben ser capaz de heredar de sus supertipos o superclases: </a:t>
            </a:r>
            <a:r>
              <a:rPr b="0" lang="es-CO" sz="1800" spc="-1" strike="noStrike">
                <a:solidFill>
                  <a:srgbClr val="000000"/>
                </a:solidFill>
                <a:latin typeface="Calibri"/>
              </a:rPr>
              <a:t>los atributos y méto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3 CuadroTexto"/>
          <p:cNvSpPr/>
          <p:nvPr/>
        </p:nvSpPr>
        <p:spPr>
          <a:xfrm>
            <a:off x="714240" y="285840"/>
            <a:ext cx="77155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6. Sobrecarga debe ser soportada: </a:t>
            </a:r>
            <a:r>
              <a:rPr b="0" lang="es-CO" sz="1800" spc="-1" strike="noStrike">
                <a:solidFill>
                  <a:srgbClr val="000000"/>
                </a:solidFill>
                <a:latin typeface="Calibri"/>
              </a:rPr>
              <a:t>Los métodos deben poder aplicarse a diferentes tip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7. El LMD debe ser completo : </a:t>
            </a:r>
            <a:r>
              <a:rPr b="0" lang="es-CO" sz="1800" spc="-1" strike="noStrike">
                <a:solidFill>
                  <a:srgbClr val="000000"/>
                </a:solidFill>
                <a:latin typeface="Calibri"/>
              </a:rPr>
              <a:t>El LMD en los SGBDOO debe ser un lenguaje de programación de propósito genera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8. El conjunto de tipos de datos debe ser extensible: </a:t>
            </a:r>
            <a:r>
              <a:rPr b="0" lang="es-CO" sz="1800" spc="-1" strike="noStrike">
                <a:solidFill>
                  <a:srgbClr val="000000"/>
                </a:solidFill>
                <a:latin typeface="Calibri"/>
              </a:rPr>
              <a:t>No habrá distinción entre tipos definidos por el usuario y tipos definidos por el sist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9. Persistencia de datos: </a:t>
            </a:r>
            <a:r>
              <a:rPr b="0" lang="es-CO" sz="1800" spc="-1" strike="noStrike">
                <a:solidFill>
                  <a:srgbClr val="000000"/>
                </a:solidFill>
                <a:latin typeface="Calibri"/>
              </a:rPr>
              <a:t>los datos deben mantenerse después de que la aplicación que los creó haya finalizado. El usuario no tiene que hacer cop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xplícitam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0. El SGBD debe ser capaz de manejar grandes B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1.</a:t>
            </a:r>
            <a:r>
              <a:rPr b="0" lang="es-CO" sz="1800" spc="-1" strike="noStrike">
                <a:solidFill>
                  <a:srgbClr val="000000"/>
                </a:solidFill>
                <a:latin typeface="Calibri"/>
              </a:rPr>
              <a:t> </a:t>
            </a:r>
            <a:r>
              <a:rPr b="1" lang="es-CO" sz="1800" spc="-1" strike="noStrike">
                <a:solidFill>
                  <a:srgbClr val="000000"/>
                </a:solidFill>
                <a:latin typeface="Calibri"/>
              </a:rPr>
              <a:t>El SGBD debe soportar Concurrencia : </a:t>
            </a:r>
            <a:r>
              <a:rPr b="0" lang="es-CO" sz="1800" spc="-1" strike="noStrike">
                <a:solidFill>
                  <a:srgbClr val="000000"/>
                </a:solidFill>
                <a:latin typeface="Calibri"/>
              </a:rPr>
              <a:t>Debe disponer de mecanismos para el control de concurrenci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2. Recuperación: </a:t>
            </a:r>
            <a:r>
              <a:rPr b="0" lang="es-CO" sz="1800" spc="-1" strike="noStrike">
                <a:solidFill>
                  <a:srgbClr val="000000"/>
                </a:solidFill>
                <a:latin typeface="Calibri"/>
              </a:rPr>
              <a:t>el SGBD debe proveer mecanismos de recuperación de la información en caso de fallo del sist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13. El SGBD debe proveer un manera fácil de hacer consul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CuadroTexto"/>
          <p:cNvSpPr/>
          <p:nvPr/>
        </p:nvSpPr>
        <p:spPr>
          <a:xfrm>
            <a:off x="714240" y="571680"/>
            <a:ext cx="7715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ASES DE DATOS ORIENTADA A OBJETOS CON UM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Lenguaje Unificado de Modelado (LUM) o (UML, por sus siglas en inglés, </a:t>
            </a:r>
            <a:r>
              <a:rPr b="0" i="1" lang="es-CO" sz="1800" spc="-1" strike="noStrike">
                <a:solidFill>
                  <a:srgbClr val="000000"/>
                </a:solidFill>
                <a:latin typeface="Calibri"/>
              </a:rPr>
              <a:t>Unified Modeling Language</a:t>
            </a:r>
            <a:r>
              <a:rPr b="0" lang="es-CO" sz="1800" spc="-1" strike="noStrike">
                <a:solidFill>
                  <a:srgbClr val="000000"/>
                </a:solidFill>
                <a:latin typeface="Calibri"/>
              </a:rPr>
              <a:t>) es el lenguaje de modelado de sistemas de software más conocido y utilizado en la actualida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 un lenguaje gráfico para visualizar, especificar, construir y documentar un sistem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Es importante resaltar que UML es un "lenguaje de modelado" para especificar o para describir métodos o procesos. Se utiliza para definir un sistema, para detallar los artefactos en el sistema y para documentar y construi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UML combina notaciones provenientes des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Modelado Orientado a Obje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Modelado de Da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Modelado de Compon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 </a:t>
            </a:r>
            <a:r>
              <a:rPr b="0" lang="es-CO" sz="1800" spc="-1" strike="noStrike">
                <a:solidFill>
                  <a:srgbClr val="000000"/>
                </a:solidFill>
                <a:latin typeface="Calibri"/>
              </a:rPr>
              <a:t>Modelado de Flujos de Trabajo (Workflow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CuadroTexto"/>
          <p:cNvSpPr/>
          <p:nvPr/>
        </p:nvSpPr>
        <p:spPr>
          <a:xfrm>
            <a:off x="714240" y="357120"/>
            <a:ext cx="771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DIAGRAMAS DE UML</a:t>
            </a:r>
            <a:endParaRPr b="0" lang="en-US" sz="1800" spc="-1" strike="noStrike">
              <a:solidFill>
                <a:srgbClr val="000000"/>
              </a:solidFill>
              <a:latin typeface="Arial"/>
            </a:endParaRPr>
          </a:p>
        </p:txBody>
      </p:sp>
      <p:pic>
        <p:nvPicPr>
          <p:cNvPr id="56" name="Picture 2" descr="http://upload.wikimedia.org/wikipedia/commons/thumb/f/fc/Uml_diagram-es.svg/600px-Uml_diagram-es.svg.png">
            <a:hlinkClick r:id="rId1"/>
          </p:cNvPr>
          <p:cNvPicPr/>
          <p:nvPr/>
        </p:nvPicPr>
        <p:blipFill>
          <a:blip r:embed="rId2"/>
          <a:stretch/>
        </p:blipFill>
        <p:spPr>
          <a:xfrm>
            <a:off x="142920" y="1071720"/>
            <a:ext cx="8858160" cy="528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CuadroTexto"/>
          <p:cNvSpPr/>
          <p:nvPr/>
        </p:nvSpPr>
        <p:spPr>
          <a:xfrm>
            <a:off x="714240" y="571680"/>
            <a:ext cx="77155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Análisis y diseño orientados a objetos con U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Metodología de diseño de B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1. Generar diagramas de casos de uso a partir de la especificación de requisitos para representar las principales funciones requeridas por el sist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2. Generar un diagrama de clases (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3. Generar un diagrama de secuencias para cada caso de uso o para cada grupo de casos de uso (interacción entre clas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4. Actualizar el diagrama de clases para mostrar los métodos requeridos en cada un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5. Crear un diagrama de estados para cada clase que muestre como cambia de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3 CuadroTexto"/>
          <p:cNvSpPr/>
          <p:nvPr/>
        </p:nvSpPr>
        <p:spPr>
          <a:xfrm>
            <a:off x="714240" y="1643040"/>
            <a:ext cx="77155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NOTACIÓN UM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UML preescribe una notación estándar y semánticas esenciales para el modelado de un sistema orientado a objetos. Previamente, un diseño orientado a objetos podría haber sido modelado con cualquiera de la docena de metodologías populares, causando a los revisores tener que aprender las semáticas y notaciones de la metodología empleada antes que intentar entender el diseño en sí. Ahora con UML, diseñadores diferentes modelando sistemas diferentes pueden sobradamente entender cada uno los diseños de los otr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6:09:39Z</dcterms:created>
  <dc:creator>anjrodriguez</dc:creator>
  <dc:description/>
  <dc:language>en-US</dc:language>
  <cp:lastModifiedBy>Estudiante</cp:lastModifiedBy>
  <dcterms:modified xsi:type="dcterms:W3CDTF">2010-05-22T01:50:59Z</dcterms:modified>
  <cp:revision>25</cp:revision>
  <dc:subject/>
  <dc:title>Diapositiva 1</dc:title>
</cp:coreProperties>
</file>